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27.wmf" ContentType="image/x-wmf"/>
  <Override PartName="/ppt/media/image16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5609-570E-44B5-9710-2619CE06F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6DBA-A7B0-4AF5-80F4-2876B3B5A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E41F-CE63-4C0C-86F5-1E4EBA816B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704-B2E0-4F99-A4B5-4433879D8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632E-A5DB-46A0-A33F-A21B1C09EE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95B-CCF4-4FC6-959A-9335512DA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E616-B9BB-42C4-8F35-8EBF2F7A89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EA0-2060-4358-9488-D57157DCB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DF1-7811-49DC-B0C3-265EB40D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C3E-D2D4-4A51-BF96-F722D56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C4997-3D53-4B3C-BA79-5E78CC1F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F7C0-C862-4A06-904F-2E13A638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F869C-2F38-4B52-B417-907F7276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D83C-E573-495D-BE44-74DC355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90CD-B0E6-4C7E-A822-7751B9AD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38600-BD8D-482D-9AA9-C3CA525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1B15-1982-4652-BC75-1BF7615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EFB03-2B63-4D6B-ACCA-9EF2F5CF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D96B-1DD2-4425-8B59-25FAE5EF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32CE0-86EF-4F5A-B52F-89FD9403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082-6A9D-4778-B4CD-7197E369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7BDA7-43BD-4399-B73C-6331DC69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04F72-32F1-4C0D-8403-CA4C5AC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70739-B842-4AC5-B5BF-A57D7947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63F30-A1D1-4E33-AAF9-F905FBB3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ACB2E-DF20-44E4-8D77-6D0D0985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CFF9F-85C1-49AA-8250-505A03D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730B1-F263-4541-8274-9C45A12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BFD2B-76EF-46F3-A6C2-2D5DE92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7C525-CF1C-4E70-8823-AE74DE53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E9759-3A7C-4354-86A1-B2A88F8C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2CF-FBCB-41A5-8CDE-D56EC8A9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41785-7041-41E1-AB79-8CFBF54F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A4FF-B86E-4A2C-8096-0167B397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D27E-B2C9-4F9B-A10B-9DF0F6BE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B3EA8-F51A-4A14-A88B-C0AA709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F187C-A0BE-4C95-94A2-AF7326CB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40973-8EEA-4E35-A104-111A71E1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A05A3-E0CE-4F12-9D8D-A46255AA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07501-F896-4E5A-890E-FE861AB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683F-88AF-4183-AD8E-5E28B94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CD429-667E-4A31-97F1-B9FD930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D72F-BEDF-404D-90E7-4442FAC4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F47AE-D9DB-450F-8F52-FD79E57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9C087-0267-43DA-A951-32AC9319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01C41-4D9F-43E9-BBF2-36A26052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9818E-C874-492F-B1AB-DD78C65F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200F4-16EE-425E-AFA6-F61ECD2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5AFB4-D944-4A92-91D0-449F0EB4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15A52-AC44-4844-87B0-E1E5DF1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ACDE1-1DEF-4CF9-94F3-C0EE4282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73F7B-ABDB-4906-B945-EFA1233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E940F-A1AD-43A2-9F74-802D4F9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1F4D-B638-4EB5-8ADC-E5E9AB4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B444A-C115-47B9-A2BD-A2BC3F1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D2710-FDC7-4118-9907-623B616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C163B-42AA-43F4-8DCC-28869DC2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EAD9D-22B3-4BF2-AD6C-D90606B3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75EFE-D809-4F19-8D4B-2A8F7775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53FB-7E97-4588-A8D6-7A71D912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F810-87A4-4D80-B9BE-4FCFB92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2D67-1F52-4A95-806A-ED354C6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9D9E-DC19-4328-B042-F7E0AD08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744-D6BF-45F0-9418-A2E076F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D5F-D8AC-4618-852F-674DE33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049-8B2D-41F1-8BAC-E030A775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DE79-B958-47D2-8CA4-E553083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31A7-745C-401F-8A52-38DBEF4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C50D-25FB-473C-B1C0-6E1A7591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7237-D9D1-4AAE-A8AF-1D473466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3F2C-A0BB-413E-9DDD-AE1A6532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B8B5-6028-4F59-BCE3-089B2B4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A339-8254-4BC5-8CDF-169C8941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799C-4D43-41C2-9416-0FDAC799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F96D-C26F-4CAF-8D23-A6216B91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494-4BD5-4A36-918D-DA9309D6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83B0-C422-4E85-8953-1AF47F1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35F2C-0FC0-40EE-9758-511E8AC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619F-C4D3-42C3-8025-39F8A0CE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38E1-FD65-43D9-92D0-EB01254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F4FA-E3E0-4856-8E7A-1BDDFFBB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5834-10D2-42B9-895E-165C6697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FEA3-6C73-4A50-A2E2-DF726002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94F7-81BB-4E38-949F-7582BA08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29E8-797A-430F-9F78-B2DE29F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E8ED-106D-45CF-9B9D-CEF5543A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EB8-42CF-44B0-9C36-044EE037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2E45-09BF-462E-91E5-D31AF60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C450-1E0C-4D7D-9B63-1209DFD1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4392-B84E-49A7-8E7D-5AE6898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0269-95B4-4245-9878-B3A4901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F227-B5F2-4471-BD8E-DC6ADED6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3659-0787-4E63-9734-67185FD0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4780-2854-4897-8188-C331B326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D336-D016-4FC2-B3D4-611B610E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50BD-CD72-4598-BBB1-1B43EC77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0506-AA98-474B-9486-E06B0091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5F8-4FD9-4A64-83F5-F0F6C20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4818-C694-494F-A64D-345DBF3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1D5B8-3E99-4480-888C-AD99E7F8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52FD-EAA9-4895-B553-34D8E844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66F7-2681-4DE3-A38E-B088BC64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A1C5-3FBD-4FDD-8E6D-048E685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38F5-E3E7-4EF5-A8AA-64D0150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05EF-8925-4D3B-B991-91095FD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64A1-1ED6-41FA-BBD4-A180E9E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DB8A-DDBE-476D-BBA5-FD7D805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D8D1-CEF2-454E-9E16-B418C0BF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1E5-45EB-44DD-8392-82413A9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03272-76C9-4A0F-BA9E-615E8EC8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FD4D-FE98-41B8-A879-2BD2F2BC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841A6-541D-4D02-A5F9-77016062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D1F4B-8628-4C9F-944B-8C40D94C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5725C-5C9E-4BD1-BBB2-BD9C1702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006B-A41D-4F1B-AE98-AF274B9C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94E2-8278-4C8A-9CDE-6E1EF1D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AECD8-8D6A-4718-A336-7495DEB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E7FD1-9D8F-4538-A088-10D2A2A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9377-0AB6-4CBE-9ACE-5E08218E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8BF-7D45-4184-B68F-E124458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70A30-CCBD-48AC-BC01-F36375A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5972-4077-4F41-94C3-22BFFC89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8350-57E9-455F-A392-C37DE81F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815EB-5A22-4CF8-AE58-4CA6B652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D9D48-150C-4B1D-B403-D916A3F2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5D31E-860B-4149-8A56-CD149D33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EA397-AC6D-4104-B22E-8D4F2456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7B04C-4001-4099-B2E3-082EE0E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B802-21BA-4AE2-87DC-E5EC7CB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1304-D953-4CF4-A602-CDBB1E4A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F7B-61F8-4EDD-96DD-BE9442D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F3504-93CA-445E-B8DF-3ED04C28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53108-F2B4-4E57-8A02-E288794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EDB1-3D30-4AA6-AFB2-9C55B27A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962A-C31B-49C4-9A90-7DBFF1A3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F8F27-8DEB-4FB1-91E0-C40AD4EA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68CB-2FA9-4BBA-A026-FA125D5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7EF8A-FBD1-44B9-85CC-D588C104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20FD-0283-4E94-9DC1-C8A0EA2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A1C9F-1160-41A7-9898-D5464C3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6B504-32ED-445E-84CA-1354E7E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B27-8087-41BD-806C-C62936D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B7A81-DF63-4A84-AB19-396C8423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451CD-71E0-4E8B-8E8C-A7D54ED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3F690-05C1-4995-9325-222A11AB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80E2-0D97-486F-9724-B81BAF8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E8DA-5649-4182-8E3A-1DC02C17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99E44-6DFA-426A-9627-57848A56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EBB92-71D3-452A-BCDB-6BFF0924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52E43-3ADB-4DCE-BBAF-F55A2EC9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2953B-37BF-4E04-8750-AEB6F2DE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5206A-86E3-49F8-8518-8C91ED4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0EE-2E27-4977-8113-E3A2E0FF5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6AA-644A-4379-AFF2-BDC689B655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72C8-44CB-4D7A-AACF-982DB9110F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5773-1FA1-4E93-B1BF-B644D7484D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CA0-7BD9-4203-A4E9-619BDD6D7A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DDE2-FF80-4434-B636-5B922FF6FC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36DE-6254-4BE3-B189-2DAE869326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43D-26CF-4031-8D1F-0FE45543F5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F498-96A2-4665-B414-0841C82C27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A59-F1CD-4ABD-9710-33E92BE888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481-0469-4AE6-91EC-2EBD2A7A03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A6F6-0217-488A-9942-B028ABB798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dQBurXQOeQ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jpeg"/><Relationship Id="rId1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498600" y="2886120"/>
            <a:ext cx="5984640" cy="121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Rockwell"/>
              </a:rPr>
              <a:t>Digital Citizenship</a:t>
            </a:r>
            <a:endParaRPr b="0" lang="en-US" sz="4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48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y 31, 2012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ller Park Elementary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7" name="Picture 1" descr=""/>
          <p:cNvPicPr/>
          <p:nvPr/>
        </p:nvPicPr>
        <p:blipFill>
          <a:blip r:embed="rId1"/>
          <a:stretch/>
        </p:blipFill>
        <p:spPr>
          <a:xfrm>
            <a:off x="2411280" y="4508640"/>
            <a:ext cx="3116520" cy="2003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3024360" cy="23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 rot="4500000">
            <a:off x="5171040" y="2230920"/>
            <a:ext cx="482112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3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overhear other students talking about a website. You check it out at home and realize that it is devoted to listing reasons to hate a certain teacher at your school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8" name="Picture 1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33829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4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0" name=""/>
          <p:cNvSpPr txBox="1"/>
          <p:nvPr/>
        </p:nvSpPr>
        <p:spPr>
          <a:xfrm rot="900000">
            <a:off x="3485880" y="97164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friend of someone you really like found out and texted everyone about it. You are receiving texts and online messages about it constantly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1" name="Picture 4" descr="MCj04360770000[1]"/>
          <p:cNvPicPr/>
          <p:nvPr/>
        </p:nvPicPr>
        <p:blipFill>
          <a:blip r:embed="rId1"/>
          <a:stretch/>
        </p:blipFill>
        <p:spPr>
          <a:xfrm>
            <a:off x="6588000" y="260280"/>
            <a:ext cx="1841760" cy="1305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5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987640" y="620280"/>
            <a:ext cx="60372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reate your own scenar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5" name="Picture 1" descr=""/>
          <p:cNvPicPr/>
          <p:nvPr/>
        </p:nvPicPr>
        <p:blipFill>
          <a:blip r:embed="rId1"/>
          <a:stretch/>
        </p:blipFill>
        <p:spPr>
          <a:xfrm>
            <a:off x="3851280" y="2673360"/>
            <a:ext cx="432108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yberbully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689280" y="836280"/>
            <a:ext cx="54547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The “S” Strategy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tay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 Cool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hut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 the Bully out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ay Stop 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to the Bully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ave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/Print the comments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50"/>
                </a:solidFill>
                <a:latin typeface="Rockwell"/>
              </a:rPr>
              <a:t>Show</a:t>
            </a:r>
            <a:r>
              <a:rPr b="0" lang="en-US" sz="3300" spc="-1" strike="noStrike">
                <a:solidFill>
                  <a:srgbClr val="ffffff"/>
                </a:solidFill>
                <a:latin typeface="Rockwell"/>
              </a:rPr>
              <a:t> an adult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Rockwell"/>
              </a:rPr>
              <a:t>Don’t take it personally, you deserve to be respected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makes a good Online Citizen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924360" y="1125000"/>
            <a:ext cx="4657680" cy="50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respectful to others - as you would face to fa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appropriate langu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proper text representation – using capitals is like SHOUTING and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Bold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n imply angr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lawfu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patient and forg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ke sure people know when you’re joking - lol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Many of you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"/>
          <p:cNvSpPr txBox="1"/>
          <p:nvPr/>
        </p:nvSpPr>
        <p:spPr>
          <a:xfrm rot="900000">
            <a:off x="3191040" y="985320"/>
            <a:ext cx="4657680" cy="55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a personal profile online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a cell phone? Ipod touch? Ipad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sted videos or pictures of yourself online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at online? Text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received messages from people you don’t know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had mean things said about them online?”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ave considered meeting people f2f after meeting them online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this all about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ook at our use of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rease our awareness of online dangers like Cyberbully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hallenge our ideas around these issu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plore strategies to encourage “Digital Citizenship”/ Social Responsibility online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157720"/>
            <a:ext cx="12765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 rot="17100000">
            <a:off x="-1474200" y="2459880"/>
            <a:ext cx="647856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Cyber-bullying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7280" y="404280"/>
            <a:ext cx="4657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yber-bullying is using the Internet, cell phones, or other technology to send or post images or texts intended to hurt or embarrass another perso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4284720" y="3933720"/>
            <a:ext cx="423396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194480" y="3164400"/>
            <a:ext cx="59166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ere does it  happen?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8" name="Picture 19" descr="imagesCAOEUU8Y.jpg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images3.jpg"/>
          <p:cNvPicPr/>
          <p:nvPr/>
        </p:nvPicPr>
        <p:blipFill>
          <a:blip r:embed="rId2"/>
          <a:stretch/>
        </p:blipFill>
        <p:spPr>
          <a:xfrm rot="871800">
            <a:off x="4041720" y="29988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3"/>
          <a:stretch/>
        </p:blipFill>
        <p:spPr>
          <a:xfrm rot="928800">
            <a:off x="2755800" y="4788000"/>
            <a:ext cx="2878200" cy="792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4" descr=""/>
          <p:cNvPicPr/>
          <p:nvPr/>
        </p:nvPicPr>
        <p:blipFill>
          <a:blip r:embed="rId4"/>
          <a:stretch/>
        </p:blipFill>
        <p:spPr>
          <a:xfrm>
            <a:off x="7693200" y="5300640"/>
            <a:ext cx="1298520" cy="1298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5" descr=""/>
          <p:cNvPicPr/>
          <p:nvPr/>
        </p:nvPicPr>
        <p:blipFill>
          <a:blip r:embed="rId5"/>
          <a:stretch/>
        </p:blipFill>
        <p:spPr>
          <a:xfrm rot="21273600">
            <a:off x="395280" y="864720"/>
            <a:ext cx="1603440" cy="1603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7" descr="imagesCAW4N5TV.jpg"/>
          <p:cNvPicPr/>
          <p:nvPr/>
        </p:nvPicPr>
        <p:blipFill>
          <a:blip r:embed="rId6"/>
          <a:stretch/>
        </p:blipFill>
        <p:spPr>
          <a:xfrm>
            <a:off x="7058160" y="1655640"/>
            <a:ext cx="1949400" cy="1297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7" descr="images.jpg"/>
          <p:cNvPicPr/>
          <p:nvPr/>
        </p:nvPicPr>
        <p:blipFill>
          <a:blip r:embed="rId7"/>
          <a:stretch/>
        </p:blipFill>
        <p:spPr>
          <a:xfrm rot="954000">
            <a:off x="2377800" y="556560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http://www.seattlebeerweek.com/images/twitter_logo.png"/>
          <p:cNvPicPr/>
          <p:nvPr/>
        </p:nvPicPr>
        <p:blipFill>
          <a:blip r:embed="rId8"/>
          <a:stretch/>
        </p:blipFill>
        <p:spPr>
          <a:xfrm rot="20639400">
            <a:off x="4590720" y="3814920"/>
            <a:ext cx="2882880" cy="1064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imagesCAKTRLBD.jpg"/>
          <p:cNvPicPr/>
          <p:nvPr/>
        </p:nvPicPr>
        <p:blipFill>
          <a:blip r:embed="rId9"/>
          <a:stretch/>
        </p:blipFill>
        <p:spPr>
          <a:xfrm>
            <a:off x="7307280" y="318600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2" descr="imagesCAN03YNH.jpg"/>
          <p:cNvPicPr/>
          <p:nvPr/>
        </p:nvPicPr>
        <p:blipFill>
          <a:blip r:embed="rId10"/>
          <a:stretch/>
        </p:blipFill>
        <p:spPr>
          <a:xfrm>
            <a:off x="5559480" y="561168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4" descr="imagesCAOF6IPG.jpg"/>
          <p:cNvPicPr/>
          <p:nvPr/>
        </p:nvPicPr>
        <p:blipFill>
          <a:blip r:embed="rId11"/>
          <a:stretch/>
        </p:blipFill>
        <p:spPr>
          <a:xfrm>
            <a:off x="6875640" y="4592520"/>
            <a:ext cx="1091880" cy="1094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2"/>
          <a:stretch/>
        </p:blipFill>
        <p:spPr>
          <a:xfrm>
            <a:off x="5435640" y="1135080"/>
            <a:ext cx="156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7" descr=""/>
          <p:cNvPicPr/>
          <p:nvPr/>
        </p:nvPicPr>
        <p:blipFill>
          <a:blip r:embed="rId13"/>
          <a:stretch/>
        </p:blipFill>
        <p:spPr>
          <a:xfrm>
            <a:off x="5276880" y="2604960"/>
            <a:ext cx="1195200" cy="1206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8" descr=""/>
          <p:cNvPicPr/>
          <p:nvPr/>
        </p:nvPicPr>
        <p:blipFill>
          <a:blip r:embed="rId14"/>
          <a:stretch/>
        </p:blipFill>
        <p:spPr>
          <a:xfrm rot="970800">
            <a:off x="3206520" y="30258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5"/>
          <a:stretch/>
        </p:blipFill>
        <p:spPr>
          <a:xfrm rot="892800">
            <a:off x="3686040" y="1495440"/>
            <a:ext cx="1609920" cy="12920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6"/>
          <a:stretch/>
        </p:blipFill>
        <p:spPr>
          <a:xfrm rot="2343600">
            <a:off x="107640" y="2317680"/>
            <a:ext cx="1639800" cy="1603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" descr=""/>
          <p:cNvPicPr/>
          <p:nvPr/>
        </p:nvPicPr>
        <p:blipFill>
          <a:blip r:embed="rId17"/>
          <a:stretch/>
        </p:blipFill>
        <p:spPr>
          <a:xfrm>
            <a:off x="1332000" y="98280"/>
            <a:ext cx="2314440" cy="8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y do we go onlin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6" name=""/>
          <p:cNvSpPr txBox="1"/>
          <p:nvPr/>
        </p:nvSpPr>
        <p:spPr>
          <a:xfrm rot="996000">
            <a:off x="3300120" y="184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u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ndependen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mmunic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nnec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dventur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re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long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isk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ing hear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dent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7" name="Picture 4" descr="MPj04312170000[1]"/>
          <p:cNvPicPr/>
          <p:nvPr/>
        </p:nvPicPr>
        <p:blipFill>
          <a:blip r:embed="rId1"/>
          <a:stretch/>
        </p:blipFill>
        <p:spPr>
          <a:xfrm>
            <a:off x="6012000" y="3213000"/>
            <a:ext cx="302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are the top 5 Online Dangers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Internet Strangers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Cyberbullying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Information Theft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Disturbing content or images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924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Rockwell"/>
              </a:rPr>
              <a:t>Damaging software/Scams</a:t>
            </a:r>
            <a:endParaRPr b="0" lang="en-US" sz="3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1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1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You are chatting online with a group of people (some you know and some you don’t know). One of them starts to say mean things about you and the rest of the group joins in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do you do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15576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2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203640" y="3716280"/>
            <a:ext cx="465768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 friend takes a picture of you that you don’t like and posts it onlin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6156360" y="376200"/>
            <a:ext cx="2519280" cy="3038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2-05-31T17:02:00Z</dcterms:modified>
  <cp:revision>62</cp:revision>
  <dc:subject/>
  <dc:title>Technology, kids and you</dc:title>
</cp:coreProperties>
</file>